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A7E-2F46-4856-B61C-D95686DE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109-789F-4FEF-8C89-31DB356D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D869E-2A82-43A2-AB95-25F78714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C68DE-9854-43BB-B746-C47E6B28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2783B-948E-403B-B3C6-EF901319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AE7A9-691C-4878-9E53-0A24095A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16C62-3F48-4F97-B982-AC846799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D4422-8F71-4923-8864-A48028CB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78584-A16A-4779-BE00-781D2E7F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D14E3-7474-45B8-A78E-CE660AB3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E2C0B-D9E1-47C6-AE83-8798C2B5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97EBA-DCA6-46C4-9C9B-A097A010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EAC-D989-40B6-9BF9-8D269EC5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5C2BF-78E9-4AF2-B5F2-6FD2A8B1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338A6-8C45-4536-B5D7-49B3DA30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26045-F868-459E-8708-913F3771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ED084-758A-4612-873E-F80A3CD1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F48A6-AA19-4CDF-B9D1-1EC27B1D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A3BE2-97F7-45A4-9C7E-1CC5E6D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BCE26-2D18-4F75-8B00-AD73FBEC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BB7FB-7592-4F23-AF50-E4194223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5C5BF-B7AC-4F05-90AC-F7BA97BB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1A5DB-1381-44F2-861E-406E48FE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F26-E3DA-4E0A-AC4D-1D18BC33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ADE10-EB6B-49A7-BED6-AB0B24B4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4A1127-78E8-4F00-8183-0B8C2CF0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409531-8DE4-41EF-A882-B7BCA567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08F1C8-F4A5-4AB9-8C04-DD2752EE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9D14AD-C0BC-46BE-ACDF-A5BA98FF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06ACEC-B2E9-4EB8-A429-FC0673EC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14A12D-C5A5-424D-94BE-4E37DA26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60EAE2-EB8C-4516-92CD-94EE37E9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A1D541-3F1B-4888-A88C-9D7656EA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EE92E1-8209-4142-BC01-CCBE879E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01B1-521B-4709-9D90-6193C872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7E0EAC-284C-43F4-A392-43970484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9261D7-1F91-4E1E-B3FC-36202F4E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618474-6577-4402-A8DC-2708B4A9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DEFCA-A693-46AF-84E8-36D5E403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6FC61-5EEF-41C8-A9E9-F48EDFCE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B948E-A257-4ADA-996F-DE922F0C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B505B-3CF0-4F2D-9458-E6CB3A9B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26710-8B3D-4281-A3C0-30943007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8B095-EC8C-4625-9D70-B1C04742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DCA6C-84C6-4343-851F-5869CFD9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8241-597A-4DA3-A061-DB365A3B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BB3C1-29F9-4942-9BD0-B05C94B3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09865-12CF-45F1-A914-AF6DE9D5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C4F52-C56C-4CCF-8C98-EF82B1B2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C1983-32E3-4D8A-88D0-EA66F7FF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5EE9C-C5DC-4EDC-B0A6-26DD7A99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439069-649E-42BE-8A1B-7EE792BF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BBA279-8D28-41E5-8BC4-4AE64D84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DFE1F8-1416-4096-8036-2A5B07BD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3A8B5D-FFAF-4D43-9524-2F283786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28C84A-E3BF-435E-97D2-F0B52355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B839-5A2D-4CF1-A553-308DF074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04AAD8-2DBF-4C97-88AB-E9BF11BE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25A12A-77B8-4015-A81F-E4B36404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0ABF75-8815-4A7A-BA57-9A4463CF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88439C-FD4F-495E-B24B-A2551C45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8E7FB1-ADFE-4CE7-9AFC-7935C796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A10AF3-4FC7-4E3F-8379-9D342988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56CF0E-8402-4D44-96E0-0ADE7C29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B201C-5F73-4BCD-BF35-6625248D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3ED13-3A26-4964-81CD-DA47FFFD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C02BC-2F40-44B6-A55B-36518CF1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55A7-3249-4EA5-9CA6-4DE6FABB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9DDD2-2FCA-4031-BD12-3640DDD9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55E084-78EA-4FC5-92D2-265B05C0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467EA-017F-410B-8A2B-9EE8DCA1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87CC5-1D1A-4367-9462-933AD9F6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4E2D6-2525-4BC9-99C9-738AEC18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F28CB-43E8-460B-A180-DE1575BC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DFE59-CA80-4612-8F35-A5376148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6EAD99-416C-4AD6-8D52-01E44347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BC8E92-B1E8-42F7-B9C3-B07F56C9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1D66-4953-4C93-B4D3-546364E6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2385-B80A-467E-A9CF-553CAA1A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1B04-2F4D-4748-BF7E-E818303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1EF-FEAB-4441-BDB7-518CDCCA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1689-D7C8-40BA-8953-3E2FC853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E391-4621-4732-B8B3-EE8FB554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F7F5-1167-4C39-8A87-27E7B8C9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2EE2-16D2-4E0A-A90B-3346E8EE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0C0B-064B-4387-8CD3-9002EEF7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274B-56CE-426A-BD80-D07496D8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5D67-422B-49C2-8429-35C44C59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93976-8EF3-4FD2-A57E-6B49794B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9116A-6CAC-4B97-9022-50AF021C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E6A1-5928-4F20-8AE0-95583F10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F13-249A-4D29-88DD-E96CEF1F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089F-FC11-406A-A568-C47C9A37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26481-8899-45E4-B734-B378CF6A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BAF7B-F211-4E81-BA08-AD3F981E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5059-FFEB-4772-A2C8-1851001B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8F0EC-E9C6-4E34-8FBA-EF666948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10825-F2C0-44F9-9E8E-54C17F3A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01270-CF53-44EC-97D3-F93259C9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8B189-71B1-4B14-B5E6-880B88B5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2AE02-0751-41F2-B875-91F8ECEC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845E27-8374-49A2-9762-59EFDF26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251-9AFD-4255-B50F-9C0C4889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7971F-42F3-4B39-BAF5-B4E7D14A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E88E9-C73E-47A4-AAA1-124CF07A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4382E3-E5BE-46C2-B16B-93C87AD3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B5ED0-EF8B-482C-A1C3-DF8AF72C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0BD74-A312-4F52-85EE-FB43BA4D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9B92A9-70DA-4363-B944-FDAAE95C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EE5DB0-C055-4953-AE0A-40387EEB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E147DF-1B52-4A6B-9AF3-8AE70639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70441-E1CC-46A3-9E3F-2E7BA522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E8700-3800-4E02-B561-4482263D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6F9-E75D-481D-B4BC-4C312C15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51ABF-C88C-47AE-8683-94693FF6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9D5CD-9413-46C1-88DC-E2D8488B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73C5E-3030-4DB8-AEBE-DF50862B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6122D-877D-49C5-8915-82250D19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9001C-C3CE-44D1-8D8A-33E3D465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2A1F5-B21A-4397-BBA2-7A6256BA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21CE0-46AB-4F23-805C-3D166B49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E61E0-CCC9-4B06-868E-B90899B5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89C09-52B4-469F-B038-7FB04ADA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AF55-2BD0-4553-8BF9-2BB34DA3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746-C737-40DC-90F8-020D2983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25EC2-ADA6-4971-A8FC-51B7DF12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A765B-8835-483C-8A70-02B09AA1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C28A9-4196-4371-B2EF-AD7C5CD6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D53A7-9CAA-42C3-A6E7-51226E98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86A8B-59FC-4F68-AF72-97D66A54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CECB2-8B66-4365-B8B2-FE3D41E0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9931C-0B17-4ADB-A12C-B4C972BA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A73EA-E1C8-432C-8E12-356BC51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137E1-F08D-4C01-8D01-70326EC6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AAACB-4688-41A8-82B2-D56E07A0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3F3-EB01-41C4-9346-F2460671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7C31A-146D-419D-9756-72BE7312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29375-4D33-43AC-8AE9-380ADB0E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BEAB6-F5AF-45E6-BA9F-9BC60413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AC2D9-2AF5-48B3-9386-6DF21D66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57839-6178-45F4-8023-ACA391A7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FF9F9-9AD6-4608-BC06-F002892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34736-2E5F-40AF-BCED-FC2DB26C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E9A2D-6B4B-4579-9794-6931E508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B2F63-8290-498D-A0F9-90524DF6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A89307-1805-4EC9-9866-FD5E569A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DD5-751A-468C-90FD-383C2C3C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B907E-0C11-4963-BAF1-A46C2065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D4FC9-6BC5-4F65-9699-F75B327E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E25B1-60C0-4263-B1F0-557E9198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D2EF41-7773-4167-82E1-2D4F5912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D811C-055B-4CA3-ACC9-70F27541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3D3ED-8976-40D1-83A1-E59EFA19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8E04D-342A-431B-9922-523801C8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5C21B-0DB8-42C9-9419-9F490EE5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C77DF-ECA2-462E-8EA1-DC97D4C6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374DC-044A-4AB6-A86B-44A03784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05F-26FB-4523-9D4C-2ABDEF57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8BD4A-463C-46B9-A3DA-184254E8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CE345-895C-4897-9025-D39ED9A2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9BC88-A9F2-4AC9-B653-7D9978FA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EED7C-DDE7-4C66-8421-41C8EA4F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C08BC-36F2-4911-A33E-9BFA2DA9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A4295-6462-4ABB-904E-6FF8863E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095C8-B1AA-4B29-AA8D-CDF4BFE8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4B643-956E-418D-B42E-D85F210F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0D11B-1EEF-452A-965A-4A4A49B6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9A270-409E-4576-8A3C-18D81188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488A-184D-4A14-8DF8-F9BFA62C4D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5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C884-4EDD-4A97-9A6D-816387D012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6EE3-7DAE-48C5-9BE2-65F122EED6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0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0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0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4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4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C772-3F76-46FB-A5CA-72CF5AA5DD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797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12" name="PlaceHolder 1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825B-31E5-4941-843E-79D73F30B5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054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D5D1-1C4A-4CE0-9834-D9B1909DDA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6CE9-F25B-49F5-9D64-0F6A7FD515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FBB6-426E-4F93-BD04-316CD2ED5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AC8F-4277-4630-8A14-7D2F39CC1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9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1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1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8F25-A35A-4C99-AEEA-A98D4F2185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9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9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0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1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3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F2EF-3061-421E-9EB1-E9121412D0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8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870C-5EF5-4869-9FBA-D4FF9137E4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55DC-F05B-49DB-878D-DAB246262D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1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BA98-3DD4-4EF9-87E8-0EAA868E5B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r nick shibe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 Ba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ñ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o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a la Bano es muy nuevo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4025520" y="1598760"/>
            <a:ext cx="3624120" cy="449712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3"/>
          <a:stretch/>
        </p:blipFill>
        <p:spPr>
          <a:xfrm>
            <a:off x="3733920" y="1600200"/>
            <a:ext cx="4038480" cy="43815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8153280" y="-60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 cuar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u una la cuato es muy incre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ina la cocina es muy bello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pati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el patio. Es muy nuevo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2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7" dur="2000" fill="hold"/>
                                        <p:tgtEl>
                                          <p:spTgt spid="1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la sala. Es muy fabuloso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casa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una la casa.es muy bel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rdi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s una jardin. Es muy estupendo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4645080" y="1598760"/>
            <a:ext cx="4037040" cy="4497120"/>
          </a:xfrm>
          <a:prstGeom prst="rect">
            <a:avLst/>
          </a:prstGeom>
          <a:ln w="0">
            <a:noFill/>
          </a:ln>
        </p:spPr>
      </p:pic>
      <p:pic>
        <p:nvPicPr>
          <p:cNvPr id="133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5:12:48Z</dcterms:created>
  <dc:creator>shibelnic</dc:creator>
  <dc:description/>
  <dc:language>en-US</dc:language>
  <cp:lastModifiedBy>shibelnic</cp:lastModifiedBy>
  <dcterms:modified xsi:type="dcterms:W3CDTF">2011-10-25T16:12:57Z</dcterms:modified>
  <cp:revision>3</cp:revision>
  <dc:subject/>
  <dc:title>Slide 1</dc:title>
</cp:coreProperties>
</file>